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905-A6B8-4D3C-9939-95BFDD1A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EC0-07E5-4C27-996D-4963631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073-22BC-407B-A1F7-67411FC5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6D8-015E-4A06-8BCF-B6709125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293-8867-4D38-A480-B4D4C74C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E3C-D31F-4784-9B4C-1F74F128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EAC-4708-431E-B525-62702DF2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44A-0D0A-4568-8D3B-0718366F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C70-723F-4B7B-A132-9AEDE3B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A98-6FCD-490A-A035-4BAACE6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C29-D202-42CE-B264-B355306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2F7-42FC-462A-85D4-CE1D3B0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ED6-334D-4067-B1D5-9EBE164C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838080"/>
                <a:ext cx="69008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914400"/>
                <a:ext cx="4876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5T15:50:08Z</dcterms:modified>
  <cp:revision>9</cp:revision>
  <dc:subject/>
  <dc:title>PowerPoint Presentation</dc:title>
</cp:coreProperties>
</file>