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C03-10D9-442F-ABD7-17D801DF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DB9-AB15-4EF5-9299-0DC0D70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305-ABE9-4787-80C5-16ACB9CF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85D-E557-4C29-A16B-CA4E8F76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1BA-1CC9-41E2-9442-95472283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C9C-1A7D-4B54-8946-D245D759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BD3-41A8-4C62-A446-0638689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525-36B6-4A6A-A2BD-D52E2B2F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281-7868-45DE-89F4-FB5FAA3B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A25-B25B-4CF8-A214-A1C3273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0C4-D6A5-4C9C-BB3D-6F92E11F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8B7-E741-4BB2-9205-DA8AC87F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5993-5A99-4CB7-A1D1-6F248C9BD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14400" y="91440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14400" y="1600200"/>
                <a:ext cx="1600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90720" y="2362320"/>
                <a:ext cx="5943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14400" y="3124080"/>
                <a:ext cx="6643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82720" y="4267080"/>
                <a:ext cx="669456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649440"/>
                <a:ext cx="5334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5920" y="1523880"/>
                <a:ext cx="559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6320" y="2895480"/>
                <a:ext cx="7221240" cy="32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,0,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n be expressed as sum of sinusoids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j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π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320" y="228600"/>
                <a:ext cx="608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320" y="1371600"/>
                <a:ext cx="53337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320" y="2709720"/>
                <a:ext cx="7169040" cy="382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π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3520" y="1523880"/>
                <a:ext cx="4876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380880"/>
                <a:ext cx="4876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533520"/>
                <a:ext cx="6189480" cy="53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ltiplying both sides of Eq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Euler's formula, it can be shown that,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38280" y="533520"/>
                <a:ext cx="31910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990720"/>
                <a:ext cx="5867280" cy="33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fter simplifying the above result, and using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Polar form, we hav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85680" y="4876920"/>
                <a:ext cx="59533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ressed in rectangular form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k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80880" y="380880"/>
                <a:ext cx="6400800" cy="47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∈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9760" y="609480"/>
                <a:ext cx="6629400" cy="531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compute other terms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sSub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milarly,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, Eq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∧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πk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π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πk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52440" y="380880"/>
                <a:ext cx="7262640" cy="529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k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6019920"/>
                <a:ext cx="4876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8600" y="76320"/>
                <a:ext cx="5181480" cy="15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2400" y="1828800"/>
                <a:ext cx="882468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7240" y="3352680"/>
                <a:ext cx="7638840" cy="34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/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πk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d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320" y="304920"/>
                <a:ext cx="4211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 </m:t>
                    </m:r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1143000"/>
                <a:ext cx="48988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Eq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80" y="2590920"/>
                <a:ext cx="7143840" cy="35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πk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6:25:30Z</dcterms:created>
  <dc:creator>rajbabu</dc:creator>
  <dc:description/>
  <dc:language>en-US</dc:language>
  <cp:lastModifiedBy>rajbabu</cp:lastModifiedBy>
  <dcterms:modified xsi:type="dcterms:W3CDTF">2002-08-17T21:28:02Z</dcterms:modified>
  <cp:revision>17</cp:revision>
  <dc:subject/>
  <dc:title>PowerPoint Presentation</dc:title>
</cp:coreProperties>
</file>