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320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FD8-78B3-46E1-8330-D7186139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37C-F051-4583-B862-F58A202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C22-2A79-4BAB-82BF-9BEC6028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624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9223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624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1926720"/>
            <a:ext cx="99972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CAA-FC63-4BA8-BB3A-2FCEC721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FBE-E48D-4574-8ECE-60A8D7F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DDD-A27D-466C-9D88-E7F759D8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C51-0E33-4829-9F55-ACEAD5AC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52E-92E7-4337-9A8A-66E72847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284040"/>
            <a:ext cx="31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897-921B-40E3-BD3B-80F0BDB7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ABA-1B9C-4F14-BBD0-BFE3C11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19267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00C-69F4-4857-ABD1-9829988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922320"/>
            <a:ext cx="151524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1926720"/>
            <a:ext cx="3105360" cy="9169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F14-C748-4D77-82B7-B5879E7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84040"/>
            <a:ext cx="3105360" cy="5335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ctr">
            <a:noAutofit/>
          </a:bodyPr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922320"/>
            <a:ext cx="3105360" cy="1922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rmAutofit/>
          </a:bodyPr>
          <a:p>
            <a:pPr marL="138240" indent="-1382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1159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512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9440" indent="-939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835200" indent="-9216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7760" y="2917440"/>
            <a:ext cx="116208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19000" y="2917440"/>
            <a:ext cx="762120" cy="21132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720" bIns="18720" anchor="t">
            <a:noAutofit/>
          </a:bodyPr>
          <a:lstStyle>
            <a:lvl1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2960"/>
                <a:tab algn="l" pos="746280"/>
                <a:tab algn="l" pos="1119240"/>
                <a:tab algn="l" pos="1492200"/>
                <a:tab algn="l" pos="1865160"/>
                <a:tab algn="l" pos="2238480"/>
                <a:tab algn="l" pos="2611440"/>
                <a:tab algn="l" pos="2984400"/>
                <a:tab algn="l" pos="3357720"/>
                <a:tab algn="l" pos="3730680"/>
                <a:tab algn="l" pos="4103640"/>
                <a:tab algn="l" pos="4476600"/>
                <a:tab algn="l" pos="4849920"/>
                <a:tab algn="l" pos="5222880"/>
                <a:tab algn="l" pos="5595840"/>
                <a:tab algn="l" pos="5969160"/>
                <a:tab algn="l" pos="6342120"/>
                <a:tab algn="l" pos="6715080"/>
                <a:tab algn="l" pos="7088040"/>
                <a:tab algn="l" pos="7461360"/>
              </a:tabLst>
            </a:pPr>
            <a:fld id="{24E6DA0D-4B1D-4F2B-A12F-8073D18E4D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914400"/>
            <a:ext cx="761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2438280"/>
            <a:ext cx="1676160" cy="457200"/>
            <a:chOff x="990720" y="2438280"/>
            <a:chExt cx="1676160" cy="457200"/>
          </a:xfrm>
        </p:grpSpPr>
        <p:sp>
          <p:nvSpPr>
            <p:cNvPr id="45" name=""/>
            <p:cNvSpPr/>
            <p:nvPr/>
          </p:nvSpPr>
          <p:spPr>
            <a:xfrm>
              <a:off x="1447920" y="2438280"/>
              <a:ext cx="7617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07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968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2193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904680" y="18288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904680" y="4572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45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584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90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9280" y="66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9280" y="1370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096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080" y="252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2:22:58Z</dcterms:created>
  <dc:creator>Jordan Rosenthal</dc:creator>
  <dc:description/>
  <dc:language>en-US</dc:language>
  <cp:lastModifiedBy>rajbabu</cp:lastModifiedBy>
  <dcterms:modified xsi:type="dcterms:W3CDTF">2002-07-23T14:38:47Z</dcterms:modified>
  <cp:revision>16</cp:revision>
  <dc:subject/>
  <dc:title>No Slide Title</dc:title>
</cp:coreProperties>
</file>