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3657600" cy="3200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525-4CB6-458D-8C11-F57686B4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310536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6120" y="1926720"/>
            <a:ext cx="310536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6F2-2D6E-4D28-94D5-FD392DFE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612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768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447-FD1F-4D88-9747-2C56243D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26240" y="9223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6360" y="9223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6120" y="19267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26240" y="19267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6360" y="19267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468-5E8C-4872-A899-15EA0141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6120" y="922320"/>
            <a:ext cx="310536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E36-9386-4936-96D1-80A340BE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310536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B1A-A94F-45EE-900A-5D65EFC8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7C1-530F-4CDB-BA55-55F7EFF7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5A8-FC09-4A17-A4AF-362FB03C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6120" y="284040"/>
            <a:ext cx="3105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2A4-9F22-4A5F-956D-D2D448E1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612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075-1856-4114-99CB-F0163E2B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768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6F0-97ED-440C-9A93-5F4B1BF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6120" y="1926720"/>
            <a:ext cx="310536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856-0834-4A21-A1B9-67571F3A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6120" y="922320"/>
            <a:ext cx="310536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marL="138240" indent="-138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1159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6512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49440" indent="-939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83520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83520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83520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5760" y="2917440"/>
            <a:ext cx="762120" cy="2113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Autofit/>
          </a:bodyPr>
          <a:lstStyle>
            <a:lvl1pPr indent="0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7760" y="2917440"/>
            <a:ext cx="1162080" cy="2113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Autofit/>
          </a:bodyPr>
          <a:lstStyle>
            <a:lvl1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19000" y="2917440"/>
            <a:ext cx="762120" cy="2113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Autofit/>
          </a:bodyPr>
          <a:lstStyle>
            <a:lvl1pPr indent="0" algn="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fld id="{C5C609BC-DFFE-48C7-98B3-D799E99A28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457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04680" y="18288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904680" y="4572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57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457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14400" y="976320"/>
            <a:ext cx="1828800" cy="304920"/>
            <a:chOff x="914400" y="976320"/>
            <a:chExt cx="1828800" cy="304920"/>
          </a:xfrm>
        </p:grpSpPr>
        <p:sp>
          <p:nvSpPr>
            <p:cNvPr id="49" name=""/>
            <p:cNvSpPr/>
            <p:nvPr/>
          </p:nvSpPr>
          <p:spPr>
            <a:xfrm>
              <a:off x="1219320" y="1128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09680" y="1128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7920" y="976320"/>
              <a:ext cx="6858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H(e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128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0" y="1128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55840" y="66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9080" y="1370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79280" y="66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79280" y="1370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22096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4080" y="252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ilter_ip1" descr=""/>
          <p:cNvPicPr/>
          <p:nvPr/>
        </p:nvPicPr>
        <p:blipFill>
          <a:blip r:embed="rId1"/>
          <a:stretch/>
        </p:blipFill>
        <p:spPr>
          <a:xfrm>
            <a:off x="111240" y="127080"/>
            <a:ext cx="768240" cy="581040"/>
          </a:xfrm>
          <a:prstGeom prst="rect">
            <a:avLst/>
          </a:prstGeom>
          <a:ln w="0">
            <a:noFill/>
          </a:ln>
        </p:spPr>
      </p:pic>
      <p:pic>
        <p:nvPicPr>
          <p:cNvPr id="61" name="filter_ip2" descr=""/>
          <p:cNvPicPr/>
          <p:nvPr/>
        </p:nvPicPr>
        <p:blipFill>
          <a:blip r:embed="rId2"/>
          <a:stretch/>
        </p:blipFill>
        <p:spPr>
          <a:xfrm>
            <a:off x="111240" y="838080"/>
            <a:ext cx="768240" cy="579600"/>
          </a:xfrm>
          <a:prstGeom prst="rect">
            <a:avLst/>
          </a:prstGeom>
          <a:ln w="0">
            <a:noFill/>
          </a:ln>
        </p:spPr>
      </p:pic>
      <p:pic>
        <p:nvPicPr>
          <p:cNvPr id="62" name="filter_ip3" descr=""/>
          <p:cNvPicPr/>
          <p:nvPr/>
        </p:nvPicPr>
        <p:blipFill>
          <a:blip r:embed="rId3"/>
          <a:stretch/>
        </p:blipFill>
        <p:spPr>
          <a:xfrm>
            <a:off x="111240" y="1562040"/>
            <a:ext cx="768240" cy="579600"/>
          </a:xfrm>
          <a:prstGeom prst="rect">
            <a:avLst/>
          </a:prstGeom>
          <a:ln w="0">
            <a:noFill/>
          </a:ln>
        </p:spPr>
      </p:pic>
      <p:pic>
        <p:nvPicPr>
          <p:cNvPr id="63" name="filter_ip_sum" descr=""/>
          <p:cNvPicPr/>
          <p:nvPr/>
        </p:nvPicPr>
        <p:blipFill>
          <a:blip r:embed="rId4"/>
          <a:stretch/>
        </p:blipFill>
        <p:spPr>
          <a:xfrm>
            <a:off x="304920" y="236232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64" name="filter_op1" descr=""/>
          <p:cNvPicPr/>
          <p:nvPr/>
        </p:nvPicPr>
        <p:blipFill>
          <a:blip r:embed="rId5"/>
          <a:stretch/>
        </p:blipFill>
        <p:spPr>
          <a:xfrm>
            <a:off x="2743200" y="128520"/>
            <a:ext cx="768240" cy="579600"/>
          </a:xfrm>
          <a:prstGeom prst="rect">
            <a:avLst/>
          </a:prstGeom>
          <a:ln w="0">
            <a:noFill/>
          </a:ln>
        </p:spPr>
      </p:pic>
      <p:pic>
        <p:nvPicPr>
          <p:cNvPr id="65" name="filter_op2" descr=""/>
          <p:cNvPicPr/>
          <p:nvPr/>
        </p:nvPicPr>
        <p:blipFill>
          <a:blip r:embed="rId6"/>
          <a:stretch/>
        </p:blipFill>
        <p:spPr>
          <a:xfrm>
            <a:off x="2743200" y="838080"/>
            <a:ext cx="768240" cy="579600"/>
          </a:xfrm>
          <a:prstGeom prst="rect">
            <a:avLst/>
          </a:prstGeom>
          <a:ln w="0">
            <a:noFill/>
          </a:ln>
        </p:spPr>
      </p:pic>
      <p:pic>
        <p:nvPicPr>
          <p:cNvPr id="66" name="filter_op3" descr=""/>
          <p:cNvPicPr/>
          <p:nvPr/>
        </p:nvPicPr>
        <p:blipFill>
          <a:blip r:embed="rId7"/>
          <a:stretch/>
        </p:blipFill>
        <p:spPr>
          <a:xfrm>
            <a:off x="2743200" y="1562040"/>
            <a:ext cx="768240" cy="579600"/>
          </a:xfrm>
          <a:prstGeom prst="rect">
            <a:avLst/>
          </a:prstGeom>
          <a:ln w="0">
            <a:noFill/>
          </a:ln>
        </p:spPr>
      </p:pic>
      <p:pic>
        <p:nvPicPr>
          <p:cNvPr id="67" name="filter_op_sum" descr=""/>
          <p:cNvPicPr/>
          <p:nvPr/>
        </p:nvPicPr>
        <p:blipFill>
          <a:blip r:embed="rId8"/>
          <a:stretch/>
        </p:blipFill>
        <p:spPr>
          <a:xfrm>
            <a:off x="2666880" y="2363760"/>
            <a:ext cx="847800" cy="6397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028880" y="2530440"/>
            <a:ext cx="1600200" cy="304560"/>
            <a:chOff x="1028880" y="2530440"/>
            <a:chExt cx="1600200" cy="304560"/>
          </a:xfrm>
        </p:grpSpPr>
        <p:sp>
          <p:nvSpPr>
            <p:cNvPr id="69" name=""/>
            <p:cNvSpPr/>
            <p:nvPr/>
          </p:nvSpPr>
          <p:spPr>
            <a:xfrm>
              <a:off x="1028880" y="2682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71880" y="2682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86080" y="2530440"/>
              <a:ext cx="6858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H(e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152280" y="533520"/>
            <a:ext cx="3422880" cy="304560"/>
            <a:chOff x="152280" y="533520"/>
            <a:chExt cx="3422880" cy="304560"/>
          </a:xfrm>
        </p:grpSpPr>
        <p:grpSp>
          <p:nvGrpSpPr>
            <p:cNvPr id="73" name=""/>
            <p:cNvGrpSpPr/>
            <p:nvPr/>
          </p:nvGrpSpPr>
          <p:grpSpPr>
            <a:xfrm>
              <a:off x="1143000" y="533520"/>
              <a:ext cx="1371600" cy="304560"/>
              <a:chOff x="1143000" y="533520"/>
              <a:chExt cx="1371600" cy="304560"/>
            </a:xfrm>
          </p:grpSpPr>
          <p:sp>
            <p:nvSpPr>
              <p:cNvPr id="74" name=""/>
              <p:cNvSpPr/>
              <p:nvPr/>
            </p:nvSpPr>
            <p:spPr>
              <a:xfrm>
                <a:off x="1143000" y="6858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7920" y="533520"/>
                <a:ext cx="68580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H(e</a:t>
                </a:r>
                <a:r>
                  <a:rPr b="0" i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j</a:t>
                </a:r>
                <a:r>
                  <a:rPr b="0" i="1" lang="en-US" sz="1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09680" y="6858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77" name=""/>
            <p:cNvGraphicFramePr/>
            <p:nvPr/>
          </p:nvGraphicFramePr>
          <p:xfrm>
            <a:off x="152280" y="558720"/>
            <a:ext cx="978120" cy="254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558720"/>
                      <a:ext cx="97812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"/>
            <p:cNvGraphicFramePr/>
            <p:nvPr/>
          </p:nvGraphicFramePr>
          <p:xfrm>
            <a:off x="2571840" y="558720"/>
            <a:ext cx="1003320" cy="254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71840" y="558720"/>
                      <a:ext cx="100332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" name=""/>
          <p:cNvGrpSpPr/>
          <p:nvPr/>
        </p:nvGrpSpPr>
        <p:grpSpPr>
          <a:xfrm>
            <a:off x="1143000" y="1309680"/>
            <a:ext cx="1371600" cy="304560"/>
            <a:chOff x="1143000" y="1309680"/>
            <a:chExt cx="1371600" cy="304560"/>
          </a:xfrm>
        </p:grpSpPr>
        <p:sp>
          <p:nvSpPr>
            <p:cNvPr id="82" name=""/>
            <p:cNvSpPr/>
            <p:nvPr/>
          </p:nvSpPr>
          <p:spPr>
            <a:xfrm>
              <a:off x="1143000" y="1461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7920" y="1309680"/>
              <a:ext cx="6858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H(e</a:t>
              </a:r>
              <a:r>
                <a:rPr b="0" i="1" lang="en-US" sz="1200" spc="-1" strike="noStrike" baseline="30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09680" y="1461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filter_ip2" descr=""/>
          <p:cNvPicPr/>
          <p:nvPr/>
        </p:nvPicPr>
        <p:blipFill>
          <a:blip r:embed="rId5"/>
          <a:stretch/>
        </p:blipFill>
        <p:spPr>
          <a:xfrm>
            <a:off x="228600" y="1143000"/>
            <a:ext cx="847800" cy="639720"/>
          </a:xfrm>
          <a:prstGeom prst="rect">
            <a:avLst/>
          </a:prstGeom>
          <a:ln w="0">
            <a:noFill/>
          </a:ln>
        </p:spPr>
      </p:pic>
      <p:pic>
        <p:nvPicPr>
          <p:cNvPr id="86" name="filter_op2" descr=""/>
          <p:cNvPicPr/>
          <p:nvPr/>
        </p:nvPicPr>
        <p:blipFill>
          <a:blip r:embed="rId6"/>
          <a:stretch/>
        </p:blipFill>
        <p:spPr>
          <a:xfrm>
            <a:off x="2590920" y="1143000"/>
            <a:ext cx="847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1143000" y="2133720"/>
            <a:ext cx="1371600" cy="304560"/>
            <a:chOff x="1143000" y="2133720"/>
            <a:chExt cx="1371600" cy="304560"/>
          </a:xfrm>
        </p:grpSpPr>
        <p:sp>
          <p:nvSpPr>
            <p:cNvPr id="88" name=""/>
            <p:cNvSpPr/>
            <p:nvPr/>
          </p:nvSpPr>
          <p:spPr>
            <a:xfrm>
              <a:off x="1143000" y="228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7920" y="2133720"/>
              <a:ext cx="6858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H(e</a:t>
              </a:r>
              <a:r>
                <a:rPr b="0" i="1" lang="en-US" sz="1200" spc="-1" strike="noStrike" baseline="30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9680" y="228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filter_ip_sum" descr=""/>
          <p:cNvPicPr/>
          <p:nvPr/>
        </p:nvPicPr>
        <p:blipFill>
          <a:blip r:embed="rId7"/>
          <a:stretch/>
        </p:blipFill>
        <p:spPr>
          <a:xfrm>
            <a:off x="228600" y="1951200"/>
            <a:ext cx="847800" cy="639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92000" y="205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6320" y="87480"/>
          <a:ext cx="3429000" cy="20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87480"/>
                    <a:ext cx="342900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47640" y="907920"/>
          <a:ext cx="2362320" cy="13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907920"/>
                    <a:ext cx="236232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33520" y="774720"/>
          <a:ext cx="25905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74720"/>
                    <a:ext cx="25905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02:22:58Z</dcterms:created>
  <dc:creator>Jordan Rosenthal</dc:creator>
  <dc:description/>
  <dc:language>en-US</dc:language>
  <cp:lastModifiedBy>rajbabu</cp:lastModifiedBy>
  <dcterms:modified xsi:type="dcterms:W3CDTF">2002-07-23T21:59:08Z</dcterms:modified>
  <cp:revision>21</cp:revision>
  <dc:subject/>
  <dc:title>No Slide Title</dc:title>
</cp:coreProperties>
</file>